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13CD-90A0-413B-AA12-7ED38A1A0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2B80-11CA-411A-8198-779A9652F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55CA-9C2B-4180-ABEA-DAD0E7614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862F-1F48-4B23-A3BC-465A18A60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014E-E3A7-433C-9DBC-A63A96E71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5D96-A645-490D-B789-56D4FC2C4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62BB-5D33-4CA3-9E72-81E8A28F8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0328-FE8C-46CF-8677-AB29CFD9F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6A22-1EA2-4F80-9D33-5103C50C3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59CD-2636-45BC-989A-FCD741186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66BB-AED8-44AE-A94B-ABC03760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0786-11E1-4867-9E6A-CDF0C2657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5A6E0-7768-4011-8861-409CBB5873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>
                <a:solidFill>
                  <a:srgbClr val="ffffff"/>
                </a:solidFill>
                <a:latin typeface="Arial"/>
                <a:cs typeface="????Boutros Rokaa"/>
              </a:rPr>
              <a:t>إليكَ رفعتُ عينيَّ</a:t>
            </a:r>
            <a:r>
              <a:rPr b="0" lang="en-US" sz="8800" spc="-1" strike="noStrike">
                <a:solidFill>
                  <a:srgbClr val="ffffff"/>
                </a:solidFill>
                <a:latin typeface="Arial"/>
                <a:ea typeface="????Boutros Rokaa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إليكَ رفعتُ عينيَّ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يا ساكِنَ السماواتِ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كما أنَّ عيونَ العبيدِ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إلى أيدي مواليهم</a:t>
            </a:r>
            <a:r>
              <a:rPr b="1" lang="en-US" sz="8800" spc="-1" strike="noStrike">
                <a:solidFill>
                  <a:srgbClr val="ffffff"/>
                </a:solidFill>
                <a:latin typeface="Arial"/>
                <a:ea typeface="Akhbar MT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كما أنَّ عيني الأَمَةِ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إلى سيدتها كذلك عيونُنا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إلى الربِ إلهـِنا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حتى يتحنَّن علينا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تحنَّنَ علينا يا ربُ</a:t>
            </a:r>
            <a:br>
              <a:rPr sz="10600"/>
            </a:b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تحنَّن علينا فقد</a:t>
            </a:r>
            <a:br>
              <a:rPr sz="10600"/>
            </a:b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طالـما امتلأنا هواناً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طالما امتلأت نفوسنا</a:t>
            </a:r>
            <a:br>
              <a:rPr sz="10600"/>
            </a:b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من هُزؤِ المترَفينَ</a:t>
            </a:r>
            <a:br>
              <a:rPr sz="10600"/>
            </a:b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وإهانةِ المتكبّرينَ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1T11:17:01Z</dcterms:created>
  <dc:creator>Charbel Azar</dc:creator>
  <dc:description/>
  <dc:language>en-US</dc:language>
  <cp:lastModifiedBy>Charbel Azar</cp:lastModifiedBy>
  <dcterms:modified xsi:type="dcterms:W3CDTF">2003-01-31T11:17:01Z</dcterms:modified>
  <cp:revision>1</cp:revision>
  <dc:subject/>
  <dc:title>إليكَ رفعتُ عينيَّ </dc:title>
</cp:coreProperties>
</file>